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D754-0F17-4DFF-A8BC-174244474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3B38-EBFB-494A-A0AE-B4898E29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F91B-D94E-4BED-ACFC-97CD3D64F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F5E1-68E7-4D96-A333-6DE50B307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FC6A-E055-468C-8830-BC6F6B7F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1F4E-7261-4F9D-9BDC-16C782E4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15C7-1558-45F5-A863-4CF88552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FF85-4BCA-48DD-90EC-2A6012AD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288F-3F43-4DD3-BB47-0D8A1E87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4879-45D9-4222-8EBD-842E8382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15E6-3E24-4C92-9A48-06A41C38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A0F3-431B-495B-8658-E178ED1D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BD5D-BACD-4E01-8E83-799CD44781D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762120"/>
            <a:ext cx="8076960" cy="58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 u="sng">
                <a:solidFill>
                  <a:srgbClr val="ffffff"/>
                </a:solidFill>
                <a:uFillTx/>
                <a:latin typeface="Arial monospaced for SAP"/>
                <a:ea typeface="Times New Roman"/>
              </a:rPr>
              <a:t>Son to his Father: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 monospaced for SAP"/>
                <a:ea typeface="Times New Roman"/>
              </a:rPr>
              <a:t>- “Dad, a Ferrari, is that a red car with a horse ?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pt-BR" sz="3000" spc="-1" strike="noStrike">
                <a:solidFill>
                  <a:srgbClr val="ffffff"/>
                </a:solidFill>
                <a:latin typeface="Arial monospaced for SAP"/>
                <a:ea typeface="Times New Roman"/>
              </a:rPr>
              <a:t>- “Yes my Son, why ?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monospaced for SAP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 monospaced for SAP"/>
                <a:ea typeface="Times New Roman"/>
              </a:rPr>
              <a:t>“</a:t>
            </a:r>
            <a:r>
              <a:rPr b="0" lang="pt-BR" sz="3000" spc="-1" strike="noStrike">
                <a:solidFill>
                  <a:srgbClr val="ffffff"/>
                </a:solidFill>
                <a:latin typeface="Arial monospaced for SAP"/>
                <a:ea typeface="Times New Roman"/>
              </a:rPr>
              <a:t>I think a Ferrari is just about to overtake us on our right side” ....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monospaced for SAP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ferrari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ferrari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2T19:55:57Z</dcterms:created>
  <dc:creator>Francoj</dc:creator>
  <dc:description/>
  <dc:language>en-US</dc:language>
  <cp:lastModifiedBy>Ron Maitland</cp:lastModifiedBy>
  <dcterms:modified xsi:type="dcterms:W3CDTF">2004-05-29T11:42:50Z</dcterms:modified>
  <cp:revision>9</cp:revision>
  <dc:subject/>
  <dc:title>Apresentação do PowerPoint</dc:title>
</cp:coreProperties>
</file>